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319894"/>
        <c:axId val="2488825"/>
      </c:barChart>
      <c:catAx>
        <c:axId val="483198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8825"/>
        <c:crosses val="autoZero"/>
        <c:auto val="1"/>
        <c:lblAlgn val="ctr"/>
        <c:lblOffset val="100"/>
        <c:noMultiLvlLbl val="0"/>
      </c:catAx>
      <c:valAx>
        <c:axId val="24888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198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3146-C3A8-4DD9-9910-C63D3A996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AB53-0619-4761-8FB2-9AAAFB2B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B613-2C45-4CA9-A829-1998BF42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0AFD-B602-4DEA-B82F-52AA889C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8E72-8D85-4706-95FD-5094CBC6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A8D2-1161-436C-B84D-5D333944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6186-D17D-4612-91EA-23BD072A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07C5-7D0F-475A-955E-C4B423A3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9F34-EA66-445E-AFCE-A0CE36D4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EE93-C6E2-4567-9DAC-4FE0CF68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9DAB-D9C0-4EE9-BD69-A3BC1083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C638-B63C-420E-91B3-D7A4FD0F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76031-7A2A-41D0-BB5E-24FF1F50B0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